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move the slide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6C6-4374-4C7D-A48D-797BEC86E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79B1-1470-4AD8-9070-1A07626212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A70-4650-4ECD-96F1-6CCF3A22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496-B94A-49B4-B44B-3855E594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9FE-5332-4894-9C0A-BCB467E6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560-3D55-4E22-9C6E-3758B7F6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FA20-4D73-4AEA-81B5-F1064ED4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97DA-666D-4210-9FD2-D6EBACC5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D3D2-8B3D-49EE-9AFE-410B16A9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AAC3-107F-44A3-ACC5-5B9991A2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B9B2-AD23-4B5F-99A3-3301D772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20AB-24FA-46BE-B122-7633C5E6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C28F-32EE-4E10-9E98-EDEE8988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90A-B7DE-49DB-86E2-AAA7321D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E040-EAFB-4C9B-A57B-E1AB959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8CF6-484E-489E-9362-080F3FF0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21E8-79A0-404D-A6EE-4D356B08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2CA5-31A2-44C2-8042-B0B1E9BC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4CD3-2020-4FD8-85D7-FE40B09B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2B4D1-4A6A-4477-90D4-1D10E751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3C048-B79C-4C4A-B8E5-1B632152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DD2FC-F686-48C1-8046-054CA95A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CA480-B7CD-4451-BB0F-FF218F76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5A161-1BB4-47E0-B5A8-0C27E7AB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63B-D1FC-44DB-84DC-D494A377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9D3F0-B21E-4F3C-BC10-11814E44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680B0-1053-4135-95CA-47F8C85A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47F58-7A05-413C-8E4D-9808AEB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7CDC5-C21C-471C-ADC0-9201F2D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5632E-D43A-4BAA-BBE0-92DAFD85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BC3C1-FE13-49DD-B349-CD4D73C1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E842D-F85B-4BBA-B013-C4B6E6EA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E12F4-C2FD-4A93-B75D-9AE0A340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6A299-AD83-4A3C-9C3E-D7DBD14C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78B9-57F0-43A9-8137-0A1FDFDE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D48-9030-4225-8186-5A02218C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FFDC-15E5-4459-BFB1-AC4D2110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F11A-ADC8-47D7-803C-73C888EB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1E889-6B99-4FEA-93ED-1E4FF250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D84C-85F2-4298-9B02-28AC63BA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CF2CE-F453-4851-8874-294518EF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6D589-F54A-4306-B8F7-1299AD9C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591AE-3604-4C50-87DF-9320D55C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B1B45-E283-4A03-866B-C0C621BA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AA96-0691-408F-9883-51E9158F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6BC85-7855-4309-AEE1-62CC7F73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019-27A5-4874-9F05-698F9361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3CF97-685E-40B3-A30E-B7236059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FF465-3004-4D43-8EDA-B540FB6F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55B2F-D0B9-4D78-83B2-48A8CF71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5112C2-19E9-49A2-8F50-117FE3DE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76460-A362-4508-8FA5-32884E54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89A09-0D74-4A3F-8D05-40DD5D1C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B62F5-CBD3-4505-BB43-96C6781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183F5E-E89D-4C92-A3B7-2C6BA537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9FE19-68F2-49BC-98DA-91B3A345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42988-9FC7-40C4-8C51-1352B718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13D-E417-4312-A875-EACC9CB1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5F501-1164-4AD5-8FDA-6093E9E8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7EA9C-28DA-4778-90DC-F5462A98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5DF6B-D187-44B5-BF8E-0F3EEA9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246B6C-001D-4193-9A92-34B3155E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99DA6-F48D-4049-BB2A-86CDF0A2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CFDA8-0762-434A-81F1-87EAA6B5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B2F85-59CD-4990-91D9-9BD6FD2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33652-9316-45ED-920F-16FEEA7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E9C78-4606-4660-A825-E20F3AA8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C5D5A-8B94-4979-8AF6-181FD4C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BA1-0810-41BA-8F7F-94276F4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AE8CE9-D2C2-4826-AC7E-E1119049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FDD41-BD46-4DFD-85D5-C98EA0F4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BE433-2958-4CDC-8556-29CC6FD1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F8940-8C89-4838-8884-B7B63AAF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9E527-58F0-4461-B26A-CDC0E4A1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EC2DC-C933-4452-B038-223DCDEE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62FA3-712E-4921-BB9C-0317B379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AD5911-B458-426E-8D52-CD69F431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64C72-26D7-45A5-B0AC-A60F45D2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5FDBC2-F472-44D8-80E3-A501D956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B5F-1EB1-49DA-ACC2-37E648EA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4D9C32-D10B-4ABD-9C18-29F22C91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CF6FF-FF10-4659-B924-6E41E94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92C75-1970-4179-B3B7-F8531FFB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1145C-6387-4CD3-A29D-8B54D0CA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A7380-19A8-4044-A714-BD11BEBA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ED4-7609-4369-A6BF-FA66900C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D07-525E-4E74-BAAA-5E9E51F8D5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4081-1AC9-4BC5-98D5-FE6AC79AEA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A380-598B-4989-AC31-2291A4BA88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09C0-8886-4EF9-B10C-249FBF657C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D44C-496D-4889-AF2E-025AD4C25F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1080-12CE-4031-B82F-4CBC8BAF3A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B827-986C-4091-8A3D-810BB31B5D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hptv.org/natureworks/nwep8b.htm" TargetMode="External"/><Relationship Id="rId3" Type="http://schemas.openxmlformats.org/officeDocument/2006/relationships/hyperlink" Target="http://buzzle.com/articles/taiga-biome-taiga-animals-and-plants.htm" TargetMode="External"/><Relationship Id="rId4" Type="http://schemas.openxmlformats.org/officeDocument/2006/relationships/hyperlink" Target="http://mbgnet.mobot.org/" TargetMode="External"/><Relationship Id="rId5" Type="http://schemas.openxmlformats.org/officeDocument/2006/relationships/hyperlink" Target="http://blueplantsbiomes.org/world_biomes.ht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6ecff"/>
                </a:solidFill>
                <a:latin typeface="Century Gothic"/>
              </a:rPr>
              <a:t>TAIGA</a:t>
            </a:r>
            <a:endParaRPr b="0" lang="en-US" sz="96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4952520"/>
            <a:ext cx="6172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cff"/>
                </a:solidFill>
                <a:latin typeface="Century Gothic"/>
              </a:rPr>
              <a:t>By Anushka Siewrattan, Kerry McCloskey, and Alyssa Marti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TEMPERATURE AND PRECIPITATION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0520" y="1143000"/>
            <a:ext cx="3505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average temperature is 0°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average precipitation is 100-200 cm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taiga is warmer and wetter than a tundr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taiga has long, severe winters and short, mild summers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Fall is the shortest season in the taig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Flowers grow in spring and many of the animals come out of hibernatio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Summer is a very rainy season in the taig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038480" y="685800"/>
            <a:ext cx="4133880" cy="5505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dgrd.jpg"/>
          <p:cNvPicPr/>
          <p:nvPr/>
        </p:nvPicPr>
        <p:blipFill>
          <a:blip r:embed="rId3"/>
          <a:stretch/>
        </p:blipFill>
        <p:spPr>
          <a:xfrm>
            <a:off x="304920" y="6248520"/>
            <a:ext cx="3110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HUMAN IMPAC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 Impact on the taiga i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Acid rain due to pollutio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urning of fossil fuels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Power plants and factories burn coal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he trees get poisoned and lose nutrients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Global warming; organisms have trouble adapting to different climates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4" name="Picture 5" descr="http://bioweb.uwlax.edu/bio203/s2009/nelson_lau4/Picea_glauca_taiga.jpg"/>
          <p:cNvPicPr/>
          <p:nvPr/>
        </p:nvPicPr>
        <p:blipFill>
          <a:blip r:embed="rId1"/>
          <a:stretch/>
        </p:blipFill>
        <p:spPr>
          <a:xfrm>
            <a:off x="1219320" y="3657600"/>
            <a:ext cx="6400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PLANTS IN THE TAIGA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240" y="837720"/>
            <a:ext cx="4800600" cy="586764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rsh climate and environmental conditions make it hard for plants to survive in the biom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. Black Spru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st common plant in Taiga because of its ability to grow in poor soil and cold climat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an reach a height of about 25 meter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tree branches are moderately shorter than other conifer tre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black spruces needles are sharp and are about half an inch long with four sides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bark is rough, thick and gray-brown in color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pinecones of spruce are a major food for the birds in Taiga biome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Picture 2" descr="http://www.biologyreference.com/images/biol_02_img0178.jpg"/>
          <p:cNvPicPr/>
          <p:nvPr/>
        </p:nvPicPr>
        <p:blipFill>
          <a:blip r:embed="rId2"/>
          <a:stretch/>
        </p:blipFill>
        <p:spPr>
          <a:xfrm>
            <a:off x="5105520" y="914400"/>
            <a:ext cx="3525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380880"/>
            <a:ext cx="4114800" cy="609624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2. Balsam Fi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alsam fir is a medium-sized; grows up to the height of 80 fee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hallow roots that hardly reach 35 inch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ranches grow at the right angle off the trunk of the tree, the lower branches are mostly dead and droop onto the ground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arks of the tree are resinous, smooth and gray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jor food supplier for deer, moose, squirrels and other inhabitants in cold winter months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9" name="Picture 2" descr="http://www.fairplains.com/images/Balsam-Fir.jpg"/>
          <p:cNvPicPr/>
          <p:nvPr/>
        </p:nvPicPr>
        <p:blipFill>
          <a:blip r:embed="rId1"/>
          <a:stretch/>
        </p:blipFill>
        <p:spPr>
          <a:xfrm>
            <a:off x="4648320" y="609480"/>
            <a:ext cx="3276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09480"/>
            <a:ext cx="4038480" cy="594360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3. Jack Pin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Grows to about 27 meters tall, the base almost similar to the height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Young jack pines have reddish colored barks, older jack pines have gray bark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ranches are long, slender that bear needle leave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t is found in cold regions of the taiga that have sandy soil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eaves and pinecones are used as food for the rodents and other animals inhabiting the biome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1" name="Picture 2" descr="http://www.blueplanetbiomes.org/images/jack_pine.jpg"/>
          <p:cNvPicPr/>
          <p:nvPr/>
        </p:nvPicPr>
        <p:blipFill>
          <a:blip r:embed="rId1"/>
          <a:stretch/>
        </p:blipFill>
        <p:spPr>
          <a:xfrm>
            <a:off x="4724280" y="685800"/>
            <a:ext cx="2667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QUESTIONS ABOUT TAIGA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2640"/>
            <a:ext cx="7467480" cy="502596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as of the world is the taiga biome located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y is it so difficult for plants to survive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most common plant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areas of the taiga have a permafrost. What is a permafrost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ow is global warming affecting the biotic factors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average temperature and precipitation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economical values lye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COMMERCIAL VALUES OF THE TAIGA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880" y="838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conomic values are fro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aigas have a lot of trees which is cut down for lumber, toilet paper, copy paper, and newsprint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More then 80% of taiga products are exported from Canada and sold in Americ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People hunt and fish in taig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here is diamond mining and coal mining in some regions of taig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362320" y="3809880"/>
            <a:ext cx="4762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ecff"/>
                </a:solidFill>
                <a:latin typeface="Century Gothic"/>
              </a:rPr>
              <a:t>WORKS CITED</a:t>
            </a:r>
            <a:endParaRPr b="0" lang="en-US" sz="26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1430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iology- Dynamics of Life (National Geographic)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iology- The Sixth Editio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bsite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2"/>
              </a:rPr>
              <a:t>http://Nhptv.org/natureworks/nwep8b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3"/>
              </a:rPr>
              <a:t>http://Buzzle.com/articles/taiga-biome-taiga-animals-and-plants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4"/>
              </a:rPr>
              <a:t>http://mbgnet.mobot.org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5"/>
              </a:rPr>
              <a:t>http://blueplantsbiomes.org/world_biomes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Century Gothic"/>
              </a:rPr>
              <a:t>THE TAIGA…</a:t>
            </a:r>
            <a:endParaRPr b="0" lang="en-US" sz="3600" spc="-1" strike="noStrike">
              <a:solidFill>
                <a:srgbClr val="d6ecff"/>
              </a:solidFill>
              <a:latin typeface="Century Gothic"/>
            </a:endParaRPr>
          </a:p>
        </p:txBody>
      </p:sp>
      <p:pic>
        <p:nvPicPr>
          <p:cNvPr id="361" name="Picture 2" descr="http://www.cas.vanderbilt.edu/bioimages/ecoregions/w50607taiga3506.jpg"/>
          <p:cNvPicPr/>
          <p:nvPr/>
        </p:nvPicPr>
        <p:blipFill>
          <a:blip r:embed="rId1"/>
          <a:stretch/>
        </p:blipFill>
        <p:spPr>
          <a:xfrm>
            <a:off x="990720" y="1371600"/>
            <a:ext cx="65307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BIOME STRETCHES ACROSS A LARGE AREA OF </a:t>
            </a:r>
            <a:br>
              <a:rPr sz="3200"/>
            </a:b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CANADA, EUROPE, AND ASIA.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pic>
        <p:nvPicPr>
          <p:cNvPr id="363" name="Picture 5" descr="Taiga"/>
          <p:cNvPicPr/>
          <p:nvPr/>
        </p:nvPicPr>
        <p:blipFill>
          <a:blip r:embed="rId1"/>
          <a:stretch/>
        </p:blipFill>
        <p:spPr>
          <a:xfrm>
            <a:off x="1219320" y="1600200"/>
            <a:ext cx="66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ecff"/>
                </a:solidFill>
                <a:latin typeface="Century Gothic"/>
              </a:rPr>
              <a:t>TYPES OF ANIMALS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520" y="838080"/>
            <a:ext cx="8077320" cy="28195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awk Ow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s in Canada, extreme Northern U.S, Northern Asia, and Scandinavia in open areas of coniferous fores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as a longer tail than the usual ow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gs are short and point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unt during the day for mice, lemming, squirrels and other small mammals. They also eat birds and insec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buClr>
                <a:srgbClr val="6fb833"/>
              </a:buClr>
              <a:buSzPct val="60000"/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7fd13b"/>
              </a:buClr>
              <a:buSzPct val="80000"/>
              <a:buFont typeface="Century Gothic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5" descr="http://www.birdguides.com/birdnews/docs/OR135175.jpg"/>
          <p:cNvPicPr/>
          <p:nvPr/>
        </p:nvPicPr>
        <p:blipFill>
          <a:blip r:embed="rId1"/>
          <a:stretch/>
        </p:blipFill>
        <p:spPr>
          <a:xfrm>
            <a:off x="1828800" y="3886200"/>
            <a:ext cx="5410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380520"/>
            <a:ext cx="4114800" cy="62485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ine Grosbea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s in Northern Scandinavia, Russia, Asia, Alaska, Canada, and Northern USA in coniferous and mixed fores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arge, long-tail fin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s its heavy bill to crush fruit such as cherries and plums. They also eat seeds, buds, and insec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les and females look different. Females are a more bronzer color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5" descr="http://www.roysephotos.com/zzPineGrosbeak6D.jpg"/>
          <p:cNvPicPr/>
          <p:nvPr/>
        </p:nvPicPr>
        <p:blipFill>
          <a:blip r:embed="rId1"/>
          <a:stretch/>
        </p:blipFill>
        <p:spPr>
          <a:xfrm>
            <a:off x="4648320" y="533520"/>
            <a:ext cx="3343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419360" y="228600"/>
            <a:ext cx="3733560" cy="63244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Lynx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ive in Europe: Scandinavia to Spain and Portugal, east through Asia to Siberia, Alaska, Canada, and Northern US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bitat is Coniferous forests and scrub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hort tails, tufted ears and cheeks, and coat color vari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coming scarce- strictly protected in most countrie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octurnal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talks prey, such as hares rodents young deer and birds, on the ground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5" descr="http://www.nature.org/wherewework/northamerica/states/montana/images/lynx_crop_web.jpg"/>
          <p:cNvPicPr/>
          <p:nvPr/>
        </p:nvPicPr>
        <p:blipFill>
          <a:blip r:embed="rId1"/>
          <a:stretch/>
        </p:blipFill>
        <p:spPr>
          <a:xfrm>
            <a:off x="304920" y="685800"/>
            <a:ext cx="399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04560" y="380520"/>
            <a:ext cx="8001000" cy="25909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uropean Red Squirr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 in Europe, east to China, Korea and Japan in evergreen fores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opulation is abundant in Europe and As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t fungi, fruit, and mostly conifer c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Picture 5" descr="http://ciuk.files.wordpress.com/2007/08/red_squirrel-ray_eye.jpg?w=800&amp;h=543"/>
          <p:cNvPicPr/>
          <p:nvPr/>
        </p:nvPicPr>
        <p:blipFill>
          <a:blip r:embed="rId1"/>
          <a:stretch/>
        </p:blipFill>
        <p:spPr>
          <a:xfrm>
            <a:off x="1523880" y="3200400"/>
            <a:ext cx="5867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600" y="762120"/>
            <a:ext cx="8305920" cy="548640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yn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wide paws that work like snowshoes to help then more better in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rizzly Bea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the ability to hold a protective layer of fat that lets them stay in their dens while its col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ray Wolf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rough and wooly fur coat to have insulation during the wint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long legs and large paws to help them travel through thick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nowshoe Rabbi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toes that can spread out, making look like a snowshoe that help it walk through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28600" y="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GEOLOGIC FEATURES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914400"/>
            <a:ext cx="7162560" cy="26668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ck soil due to co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tinuous belt of cone- bearing coniferous tre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me areas of the taiga have a layer of permafrost (permanently frozen layer of soil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il is very infertile due to acid from conifer needles causing little plant lif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ound is made up of various bog stag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7" name="Picture 5" descr="http://www.wildnatureimages.com/S%20to%20Z/TEK-SUMMER-2..jpg"/>
          <p:cNvPicPr/>
          <p:nvPr/>
        </p:nvPicPr>
        <p:blipFill>
          <a:blip r:embed="rId1"/>
          <a:stretch/>
        </p:blipFill>
        <p:spPr>
          <a:xfrm>
            <a:off x="1676520" y="3733920"/>
            <a:ext cx="4800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27:47Z</dcterms:created>
  <dc:creator>xpstudent</dc:creator>
  <dc:description/>
  <dc:language>en-US</dc:language>
  <cp:lastModifiedBy>xpstudent</cp:lastModifiedBy>
  <dcterms:modified xsi:type="dcterms:W3CDTF">2010-10-28T12:15:24Z</dcterms:modified>
  <cp:revision>28</cp:revision>
  <dc:subject/>
  <dc:title>Taiga</dc:title>
</cp:coreProperties>
</file>